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F8C-D4BA-45E7-A413-F93A2AB0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826-DBD3-44C4-AD5F-620E8CE8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B65-E625-4760-ABD8-DC3A3345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CEB-974A-4D8C-8933-FA112B9E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5AD-EF33-4C94-A567-C3D91522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473-4E2B-46E3-B1BC-D0B1066B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CA3B-5F22-49F5-ADBB-5F74A93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BEA-B2B1-49A0-8B2B-1A38B989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A622-5CA8-4F8F-AE41-1D3A8FF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3CC9-D993-4815-AFCA-60C8FA7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338-53F6-47C6-B56E-73213A9B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F47-A5AF-487F-A76D-FAB9D77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B00-FEED-4BF7-A7EB-23A2AB7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6BF-351A-47B0-BB26-05CBC4D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5ADA-2B89-42B0-B85B-FD8BD137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6C02-254A-4F8B-B78A-613E56D8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9F73-44C0-4597-A1A1-32AC7936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241C-E934-4A14-97AF-F7582C60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BB0A-7751-489E-9C35-14DBD02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A451-94A6-40A4-94FA-0C41BCAA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6DFF-F969-4594-8E30-FDC14000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4846-2FE7-469E-8672-0008952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C3A-001A-44CA-987B-7C98F19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20C4-E9D8-4EA0-824A-2C7E39C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AE13-FC89-4BAC-ADD9-29CEE7CB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E4F3-302F-4021-AB82-0A2858C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309E-548A-4DAA-83A3-BE6A741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44D1-DEF4-4892-A30A-F894240D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4315-42AA-47B0-8E55-39A8BFFB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900F-B928-4385-A5CF-24A07AC6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3716-8BC6-4BC8-8D9A-4BEDEA3D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42A9-CAC2-4423-990E-F7758397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9AD8-495F-4C4F-9429-029CABE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6BB-1C68-4075-8722-0EDB51ED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F6EF-6D2E-4D56-A26C-242825A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0EA0-D1C1-4AAF-A0F9-D9D7C6D4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BCE1-F0D5-4CC1-B661-2BDA12DE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D353-3830-4494-BD92-6A9DC35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5067-235D-4AD7-9CD7-E987D8E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1365-F4B8-46FB-ACC6-F6D2075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41D6-9834-47C6-A29C-4D8624E3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C1B5-E138-4FBB-942D-B3D2E99A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0820-060D-4CC7-95D1-9E84A0B4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9C24-CFE1-4326-A345-302B88F9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D76-4A5C-4CE5-8175-BC43604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1F2A-E264-4ECC-B9BD-25674AE1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80668-D24C-4FDA-BC7F-D533C10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F39C7-319E-48E0-8F7E-8AD0ED2E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79AA-7D37-474E-818B-0A99ABE5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5021-9665-4C28-ADB3-2922D99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A878D-CADC-4710-88FF-05B967D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A9DF-C511-42DA-B4E0-C09E623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502A-2E38-41AC-B7BA-83A1DA6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8BFF9-B236-4568-8361-8941380A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14C3-FF4F-49C2-A4B5-1E490385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9C2-EB01-40CF-B438-9A33E278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FD19-72E6-4EBA-A354-634A8E7F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A88BE-B1B2-4E18-8611-1E3181E2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051C-76A5-483C-BE94-EB69A80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C399E-49DA-4B81-B32B-8FD477C0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9166-E747-4AE2-B831-7FA311E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AAA2-0B6B-4E72-AF9D-6F0E2E2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0152-32AE-4616-842B-B7A3740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81E3-D65C-47BD-9885-30BFDD1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9095D-4AB2-4296-86C8-92BC60F7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F2A8-2EAF-474C-84DF-A105454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C35-5E0B-4400-B6FF-4680985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DB83-17E6-45EC-A665-65CDCA5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501D0-88CB-4E74-BE59-D682925D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EEC1-904C-40F3-81B3-9561EE13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5528-15EA-4176-A36B-3A62D20E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DA968-89CC-43B3-83C0-B3E331E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08C9-AD93-44DE-B35A-513C8036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010D4-3512-4C38-A638-9F058BCF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8570-AF7F-4DF4-B501-4A905FF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3EA4-2106-41D2-B5B1-71B6D99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D063-91A2-4264-AB00-BBEA3A9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25B-1E21-4D6E-98F1-C7EA56B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0401-6823-4F13-B2EF-7D2E1FF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3224A-1A51-4C5A-B29B-8521A00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D9DB-20AF-469F-B1C9-117A3E1E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DCCF-CA57-4442-BC43-EC3E855A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2124D-B4FB-4B51-9521-80BBE4EE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07C-07DB-4E95-8998-EA9A4AA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F5BD-0DB6-489E-9BB6-4B74FC8158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CF8D-0FE0-43ED-823E-B99EC3A596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6E25-1C59-496F-8D4A-DE64F3AA33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B62-9DD1-44E5-8635-4562A3575D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C9F-672E-4B5F-917F-05AE811EF55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8CB-7177-4E09-BB6D-6EB926F985D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75A-E783-4D38-9234-50EA1C2C351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us 50 states map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7:48:43Z</dcterms:created>
  <dc:creator>user</dc:creator>
  <dc:description/>
  <dc:language>en-US</dc:language>
  <cp:lastModifiedBy>user</cp:lastModifiedBy>
  <dcterms:modified xsi:type="dcterms:W3CDTF">2013-01-28T17:53:12Z</dcterms:modified>
  <cp:revision>1</cp:revision>
  <dc:subject/>
  <dc:title>Slide 1</dc:title>
</cp:coreProperties>
</file>